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7688-C8D4-45F6-AD75-B47F1C990B6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094B-5F93-47AB-BB77-FE87098E75A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017E-900C-4422-8F2D-4A0AA61349B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76A9-5A8C-4AD9-808B-C4AD1FB7000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80D7-A9D3-4E91-9B9F-5AA06ACD5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B8F2-C169-4058-8192-D6CD7B68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1F68-B279-4823-B025-129B2AAD7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E1EB-89C3-49B3-8A6A-CBE086A9B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AFB5-0BFD-4F8F-AF3F-81BBD8C4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A3B8-2FD1-4076-A225-FBC4DEA3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FE1E-3953-4506-8246-99E58F90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2986-9CC1-4B48-ADDA-F8831B0D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81A3-E352-4FF1-89CA-D9F315EB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9A13-81F5-4F46-81A4-DE535B99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16EE-F6A6-4031-A700-5DA5E07F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ED0E-C95E-4F57-957D-970F4B80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2CA1-1346-40A2-A922-742D9AEAAE1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33"/>
          <p:cNvSpPr/>
          <p:nvPr/>
        </p:nvSpPr>
        <p:spPr>
          <a:xfrm>
            <a:off x="7920000" y="3386160"/>
            <a:ext cx="1352520" cy="25225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9920" y="996840"/>
            <a:ext cx="453384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1000*820*21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 겸용 책상으로 두 가지 제품의 장점을 적용한 제품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최대한의 수납공간을 많이 적용하려고 노력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측판은 상판을 견고하게 잡아주는 역할을 하며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곡선으로 디자인하여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루하지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않도록 설계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에 상판과 측판을 세우는 구조로 하부 수납가구를 별도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설치할 필요가 없어 경제적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위 작은도어를 적용하여 개인사물함을 보관할 수 있도록 시건장치 부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배선을 위해 설계되어 개폐가 용이한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콘센트와 배선 홀 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몸통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어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23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퍼맥스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FP-PW202)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보강 브라켓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T STEEL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장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44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DESK &lt;DSD3012-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책상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그림 10" descr="color.jpg"/>
          <p:cNvPicPr/>
          <p:nvPr/>
        </p:nvPicPr>
        <p:blipFill>
          <a:blip r:embed="rId1"/>
          <a:stretch/>
        </p:blipFill>
        <p:spPr>
          <a:xfrm>
            <a:off x="284040" y="591192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1"/>
          <p:cNvSpPr/>
          <p:nvPr/>
        </p:nvSpPr>
        <p:spPr>
          <a:xfrm>
            <a:off x="1981080" y="61437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직선 연결선 4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직사각형 4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선 연결선 46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pic>
        <p:nvPicPr>
          <p:cNvPr id="98" name="그림 1" descr=""/>
          <p:cNvPicPr/>
          <p:nvPr/>
        </p:nvPicPr>
        <p:blipFill>
          <a:blip r:embed="rId4"/>
          <a:srcRect l="33175" t="0" r="33655" b="0"/>
          <a:stretch/>
        </p:blipFill>
        <p:spPr>
          <a:xfrm>
            <a:off x="4924440" y="1181160"/>
            <a:ext cx="2468520" cy="496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:\문서관리폴더-리바트.법인운영\부서문서함-문승\B.네오스영업지원\A.제안자료\02.대리점현장\2015\6월\0609-아주대학교 화홍관 기숙사(김현종GJ)\참고자료\image_2.jpg"/>
          <p:cNvPicPr/>
          <p:nvPr/>
        </p:nvPicPr>
        <p:blipFill>
          <a:blip r:embed="rId5"/>
          <a:stretch/>
        </p:blipFill>
        <p:spPr>
          <a:xfrm>
            <a:off x="7967520" y="4925880"/>
            <a:ext cx="1252800" cy="938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D:\문서관리폴더-리바트.법인운영\부서문서함-문승\B.네오스영업지원\A.제안자료\02.대리점현장\2015\6월\0609-아주대학교 화홍관 기숙사(김현종GJ)\참고자료\image_4.jpg"/>
          <p:cNvPicPr/>
          <p:nvPr/>
        </p:nvPicPr>
        <p:blipFill>
          <a:blip r:embed="rId6"/>
          <a:stretch/>
        </p:blipFill>
        <p:spPr>
          <a:xfrm>
            <a:off x="7967520" y="3768840"/>
            <a:ext cx="1252800" cy="936360"/>
          </a:xfrm>
          <a:prstGeom prst="rect">
            <a:avLst/>
          </a:prstGeom>
          <a:ln w="1440">
            <a:solidFill>
              <a:srgbClr val="ffffff"/>
            </a:solidFill>
            <a:miter/>
          </a:ln>
        </p:spPr>
      </p:pic>
      <p:sp>
        <p:nvSpPr>
          <p:cNvPr id="101" name="타원 24"/>
          <p:cNvSpPr/>
          <p:nvPr/>
        </p:nvSpPr>
        <p:spPr>
          <a:xfrm>
            <a:off x="6954840" y="529740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2" name="그룹 31"/>
          <p:cNvGrpSpPr/>
          <p:nvPr/>
        </p:nvGrpSpPr>
        <p:grpSpPr>
          <a:xfrm>
            <a:off x="7085160" y="4812840"/>
            <a:ext cx="820440" cy="484200"/>
            <a:chOff x="7085160" y="4812840"/>
            <a:chExt cx="820440" cy="484200"/>
          </a:xfrm>
        </p:grpSpPr>
        <p:sp>
          <p:nvSpPr>
            <p:cNvPr id="103" name="직선 연결선 26"/>
            <p:cNvSpPr/>
            <p:nvPr/>
          </p:nvSpPr>
          <p:spPr>
            <a:xfrm flipV="1">
              <a:off x="7085160" y="4812840"/>
              <a:ext cx="10800" cy="48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직선 연결선 27"/>
            <p:cNvSpPr/>
            <p:nvPr/>
          </p:nvSpPr>
          <p:spPr>
            <a:xfrm>
              <a:off x="7085160" y="4819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5" name="Text Box 8"/>
          <p:cNvSpPr/>
          <p:nvPr/>
        </p:nvSpPr>
        <p:spPr>
          <a:xfrm>
            <a:off x="7920000" y="3447360"/>
            <a:ext cx="1352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철재 고정 브라켓 사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6" name="그룹 31"/>
          <p:cNvGrpSpPr/>
          <p:nvPr/>
        </p:nvGrpSpPr>
        <p:grpSpPr>
          <a:xfrm>
            <a:off x="7085160" y="3723840"/>
            <a:ext cx="820440" cy="327240"/>
            <a:chOff x="7085160" y="3723840"/>
            <a:chExt cx="820440" cy="327240"/>
          </a:xfrm>
        </p:grpSpPr>
        <p:sp>
          <p:nvSpPr>
            <p:cNvPr id="107" name="직선 연결선 30"/>
            <p:cNvSpPr/>
            <p:nvPr/>
          </p:nvSpPr>
          <p:spPr>
            <a:xfrm flipV="1">
              <a:off x="7095960" y="3723840"/>
              <a:ext cx="0" cy="327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직선 연결선 31"/>
            <p:cNvSpPr/>
            <p:nvPr/>
          </p:nvSpPr>
          <p:spPr>
            <a:xfrm>
              <a:off x="7085160" y="3730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9" name="타원 32"/>
          <p:cNvSpPr/>
          <p:nvPr/>
        </p:nvSpPr>
        <p:spPr>
          <a:xfrm>
            <a:off x="6954840" y="405144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0" name="그룹 35"/>
          <p:cNvGrpSpPr/>
          <p:nvPr/>
        </p:nvGrpSpPr>
        <p:grpSpPr>
          <a:xfrm>
            <a:off x="5371200" y="-2311560"/>
            <a:ext cx="5619240" cy="1538280"/>
            <a:chOff x="5371200" y="-2311560"/>
            <a:chExt cx="5619240" cy="1538280"/>
          </a:xfrm>
        </p:grpSpPr>
        <p:sp>
          <p:nvSpPr>
            <p:cNvPr id="111" name="TextBox 54"/>
            <p:cNvSpPr/>
            <p:nvPr/>
          </p:nvSpPr>
          <p:spPr>
            <a:xfrm>
              <a:off x="5371200" y="-231156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Arita Sans Medium"/>
                </a:rPr>
                <a:t>FUNCTION</a:t>
              </a:r>
              <a:r>
                <a:rPr b="0" lang="en-US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_ </a:t>
              </a:r>
              <a:r>
                <a:rPr b="0" lang="ko-KR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기능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직사각형 55"/>
            <p:cNvSpPr/>
            <p:nvPr/>
          </p:nvSpPr>
          <p:spPr>
            <a:xfrm>
              <a:off x="5499000" y="-2006640"/>
              <a:ext cx="549144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장에 상판과 측판을 세우는 구조로 하부 수납가구를 별도로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설치할 필요가 없어 경제적임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 배선을 위해 설계되어 개폐가 용이한 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4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구 콘센트와 배선 홀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에 적용된 조용 등 으로 학습 집중도 향상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미니서랍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액세서리 걸이 등을 적용하여 사용자의 편리성을 강화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1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그림 1" descr=""/>
          <p:cNvPicPr/>
          <p:nvPr/>
        </p:nvPicPr>
        <p:blipFill>
          <a:blip r:embed="rId3"/>
          <a:srcRect l="35144" t="1273" r="43808" b="11682"/>
          <a:stretch/>
        </p:blipFill>
        <p:spPr>
          <a:xfrm>
            <a:off x="6357960" y="1241280"/>
            <a:ext cx="156672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" name="그림 10" descr="color.jpg"/>
          <p:cNvPicPr/>
          <p:nvPr/>
        </p:nvPicPr>
        <p:blipFill>
          <a:blip r:embed="rId4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3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그림 10" descr="color.jpg"/>
          <p:cNvPicPr/>
          <p:nvPr/>
        </p:nvPicPr>
        <p:blipFill>
          <a:blip r:embed="rId3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" name="Picture 1" descr="그림2"/>
          <p:cNvPicPr/>
          <p:nvPr/>
        </p:nvPicPr>
        <p:blipFill>
          <a:blip r:embed="rId4"/>
          <a:srcRect l="11570" t="7395" r="11446" b="2026"/>
          <a:stretch/>
        </p:blipFill>
        <p:spPr>
          <a:xfrm>
            <a:off x="7180200" y="1380960"/>
            <a:ext cx="2238480" cy="4781880"/>
          </a:xfrm>
          <a:prstGeom prst="rect">
            <a:avLst/>
          </a:prstGeom>
          <a:ln w="0">
            <a:noFill/>
          </a:ln>
        </p:spPr>
      </p:pic>
      <p:pic>
        <p:nvPicPr>
          <p:cNvPr id="141" name="그림 1" descr=""/>
          <p:cNvPicPr/>
          <p:nvPr/>
        </p:nvPicPr>
        <p:blipFill>
          <a:blip r:embed="rId5"/>
          <a:srcRect l="40546" t="5535" r="33847" b="4821"/>
          <a:stretch/>
        </p:blipFill>
        <p:spPr>
          <a:xfrm>
            <a:off x="5283360" y="1441440"/>
            <a:ext cx="17064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2:05Z</dcterms:modified>
  <cp:revision>231</cp:revision>
  <dc:subject/>
  <dc:title>슬라이드 1</dc:title>
</cp:coreProperties>
</file>